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C69-85AC-4C24-AF19-36175EE4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8856-25D2-44E9-B8A7-96F772A5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7D2D-741D-4B7D-8933-09C587C96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B599-3950-4A48-AA85-D42B88C8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1677-F567-41D9-B23B-73A7264E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71ED-3908-45E1-9806-89AC6FB5B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D497-F346-4469-85F0-B47BB95B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53DF-CAC8-4264-A815-79EF55A04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0BB5-B48F-4678-92DE-F50BF987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1B4F-17AC-4929-8294-81DC9BF3E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D0F4-55CA-4B7F-AED0-184048C9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698A-D1A2-43C5-A0D3-5C1910B7B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5C0B2-DB21-498F-9675-5C60EE19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5161-49A6-426E-8362-00320CA8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48C7-4498-4628-B4DA-5103326B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D5B56-A51F-493B-89B3-BC2BE3C15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CCFC-E034-4BDB-9192-B1377F756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E244D-5CDF-4267-8E86-5712B5914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D240C-9667-404B-8193-EF6439D83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FE9C-45C7-40ED-BC1C-FAC0E4AB6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C61F-245B-4F8F-A2B3-FA803E170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74F9-AF79-4CE5-B868-9ADCD78C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D87B-B718-4687-8F8B-EB96B041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A311-B60B-4CFB-B543-0C61138F1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c3ccd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B644-521D-4E2C-BAFB-94CCC8A41D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afb7b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d0dae2"/>
                </a:gs>
                <a:gs pos="100000">
                  <a:srgbClr val="e7ed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52F7-146B-453B-9CF4-3E6421DA4E5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327636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Tahoma"/>
              </a:rPr>
              <a:t>Живая оболочка Земли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990720" y="4648320"/>
            <a:ext cx="7772400" cy="1904760"/>
          </a:xfrm>
          <a:prstGeom prst="rect">
            <a:avLst/>
          </a:prstGeom>
          <a:noFill/>
          <a:ln w="76320">
            <a:solidFill>
              <a:srgbClr val="97ad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Составила: Маркова Лайма Валдисов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учитель химии и биологии Усть-Язьвинской МСОШ Красновишерского района 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Оформила в </a:t>
            </a:r>
            <a:r>
              <a:rPr b="1" lang="en-US" sz="1800" spc="-1" strike="noStrike">
                <a:solidFill>
                  <a:srgbClr val="3333cc"/>
                </a:solidFill>
                <a:latin typeface="Tahoma"/>
              </a:rPr>
              <a:t>Power Point</a:t>
            </a: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ahoma"/>
              </a:rPr>
              <a:t>Добрынина Людмила Викторовна, </a:t>
            </a:r>
            <a:r>
              <a:rPr b="0" lang="ru-RU" sz="1800" spc="-1" strike="noStrike">
                <a:solidFill>
                  <a:srgbClr val="3333cc"/>
                </a:solidFill>
                <a:latin typeface="Tahoma"/>
              </a:rPr>
              <a:t>учитель биологии МОУ Краснооктябрьская СОШ Каргапольского района Курганской области</a:t>
            </a: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514600" y="457200"/>
            <a:ext cx="4267080" cy="2666880"/>
          </a:xfrm>
          <a:prstGeom prst="rect">
            <a:avLst/>
          </a:prstGeom>
          <a:ln w="5724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8229600" cy="711000"/>
          </a:xfrm>
          <a:prstGeom prst="rect">
            <a:avLst/>
          </a:prstGeom>
          <a:solidFill>
            <a:srgbClr val="33cccc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ahoma"/>
              </a:rPr>
              <a:t>Живая оболочка Земли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80880" y="2133720"/>
            <a:ext cx="4267440" cy="434340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410080" y="4038480"/>
            <a:ext cx="3505320" cy="240192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410080" y="1828800"/>
            <a:ext cx="35053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 презентации использованы иллюстрации из: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зовательный комплекс «Биология, 10 кл.» - ©ЗАО «1С», 2009; ©OOО «1С-Паблишинг», 2009; © Издательский центр «Вентана-Граф»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кст учебника с иллюстрациями, 200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иблиотека электронных наглядных пособий «Биология. 6-9 классы» - Кирилл и Мефодий,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ольшая энциклопедия Кирилла и Мефодия, 200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3827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Количество живого вещества той или иной биологической системы, приходящееся на единицу площади или объем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28600" y="3352680"/>
            <a:ext cx="19051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 /  S =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705720" y="5791320"/>
            <a:ext cx="19047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  /  V  =  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208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2. Ученый, создавший учение о биосфер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874600" y="1669320"/>
            <a:ext cx="3396600" cy="35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863–1945 гг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Вернадский Владимир Иванович"/>
          <p:cNvPicPr/>
          <p:nvPr/>
        </p:nvPicPr>
        <p:blipFill>
          <a:blip r:embed="rId1"/>
          <a:stretch/>
        </p:blipFill>
        <p:spPr>
          <a:xfrm>
            <a:off x="6934320" y="4267080"/>
            <a:ext cx="1952640" cy="2400480"/>
          </a:xfrm>
          <a:prstGeom prst="rect">
            <a:avLst/>
          </a:prstGeom>
          <a:ln w="5724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7010280" y="2590920"/>
            <a:ext cx="1905120" cy="1457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858000" y="4495680"/>
            <a:ext cx="2057400" cy="1854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3208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3.Вещество, образованное совокупностью организмо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228600" y="3505320"/>
            <a:ext cx="1676520" cy="142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3400"/>
            <a:ext cx="8229600" cy="173988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4.Живые организмы, составляющие основную часть биомассы планеты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17480"/>
            <a:ext cx="8229600" cy="7113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5.Газовая оболочка Земли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rcRect l="39064" t="17709" r="19532" b="7294"/>
          <a:stretch/>
        </p:blipFill>
        <p:spPr>
          <a:xfrm>
            <a:off x="7010280" y="4343400"/>
            <a:ext cx="18511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17480"/>
            <a:ext cx="8229600" cy="71136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6. Элемент - органоген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010280" y="4648320"/>
            <a:ext cx="1676520" cy="161604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  <p:sp>
        <p:nvSpPr>
          <p:cNvPr id="112" name=""/>
          <p:cNvSpPr txBox="1"/>
          <p:nvPr/>
        </p:nvSpPr>
        <p:spPr>
          <a:xfrm>
            <a:off x="6477120" y="2743200"/>
            <a:ext cx="18478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N   O    C    H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 txBox="1"/>
          <p:nvPr/>
        </p:nvSpPr>
        <p:spPr>
          <a:xfrm rot="19768200">
            <a:off x="228600" y="3809880"/>
            <a:ext cx="243828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K   Na  S  P  Cl  Fe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16880"/>
            <a:ext cx="8229600" cy="131292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7. Движение веществ в природе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57200" y="1905120"/>
          <a:ext cx="8229600" cy="4525920"/>
        </p:xfrm>
        <a:graphic>
          <a:graphicData uri="http://schemas.openxmlformats.org/drawingml/2006/table">
            <a:tbl>
              <a:tblPr/>
              <a:tblGrid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24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  <a:gridCol w="484200"/>
              </a:tblGrid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 </a:t>
                      </a: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3333cc"/>
                          </a:solidFill>
                          <a:latin typeface="Calibri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42640"/>
            <a:ext cx="8229600" cy="1749240"/>
          </a:xfrm>
          <a:prstGeom prst="rect">
            <a:avLst/>
          </a:prstGeom>
          <a:solidFill>
            <a:srgbClr val="6666ff"/>
          </a:solidFill>
          <a:ln w="936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8.Важный компонент биосферы и один из необходимых факторов существования живых организмов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39064" t="17709" r="19532" b="7294"/>
          <a:stretch/>
        </p:blipFill>
        <p:spPr>
          <a:xfrm>
            <a:off x="7010280" y="4343400"/>
            <a:ext cx="1851120" cy="2209680"/>
          </a:xfrm>
          <a:prstGeom prst="rect">
            <a:avLst/>
          </a:prstGeom>
          <a:ln w="38160">
            <a:solidFill>
              <a:srgbClr val="97adb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chitel</cp:lastModifiedBy>
  <dcterms:modified xsi:type="dcterms:W3CDTF">2011-03-05T15:30:5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